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05D-0966-44ED-A251-C890D247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B87-454C-4EC9-93B4-0A795753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D10-DBB3-42C5-9542-729F762B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4828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444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4828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444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ADD-DCF5-405D-8C03-4A01A41E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9765-8D09-4086-9CDA-4B7C0537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13CC-9B65-48AB-BEB4-9525E5DA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3B0B-1F7F-42E6-93B6-DD66AA55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0E26-4D8E-41D9-8469-88C833B5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A1BA-DC2F-4A13-BBCE-188A3515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C126-5A5B-4C13-A3D1-E42BCD04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7F44-E3DC-4399-AE9A-52035EFE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A44-855C-4B59-8615-6B230315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3C4A-6E4D-4197-8CFA-4AC763B9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C80A-0FDF-44E0-A10B-FB11A5AC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5C33-211E-4DB4-9E9E-A3F3D973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8913-37C1-460E-A056-D0D044E3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4828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4444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5212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4828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4444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7F0D-F1B4-4B7F-8467-ACB43DAE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640-09E1-486B-858F-CA3C1977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171-E56D-479F-8B7E-3561E379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EC30-29B4-49A9-A74D-FE8ABF83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278-F98E-4D29-81D8-FBC7F4C4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5E9-7A08-4DA3-B1A3-4233BB3B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809-2E6E-49DF-938E-8DE10AFE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0C3-644E-4700-A9C1-245903ED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343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eb00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100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8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767960" y="6248520"/>
            <a:ext cx="173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D6DD1-5D5D-4098-900D-1CFF5E7A1E9B}" type="slidenum">
              <a: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4B23A-BF8A-4C4B-8180-EF0F2A9432BB}" type="slidenum">
              <a: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10019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8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bme.org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781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To Sleep, or not to Sleep</a:t>
            </a:r>
            <a:endParaRPr b="0" lang="en-US" sz="6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4114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Matura MT Script Capitals"/>
              </a:rPr>
              <a:t>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87600" cy="1066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 rot="5400000">
            <a:off x="7880400" y="3321000"/>
            <a:ext cx="380880" cy="292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66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Gill Sans Ultra Bold"/>
              </a:rPr>
              <a:t>z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89" name=""/>
          <p:cNvSpPr txBox="1"/>
          <p:nvPr/>
        </p:nvSpPr>
        <p:spPr>
          <a:xfrm rot="5400000">
            <a:off x="7956000" y="4083120"/>
            <a:ext cx="381240" cy="29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66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Gill Sans Ultra Bold"/>
              </a:rPr>
              <a:t>z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90" name=""/>
          <p:cNvSpPr txBox="1"/>
          <p:nvPr/>
        </p:nvSpPr>
        <p:spPr>
          <a:xfrm rot="5400000">
            <a:off x="8337600" y="2787480"/>
            <a:ext cx="380880" cy="292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66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Gill Sans Ultra Bold"/>
              </a:rPr>
              <a:t>z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91" name=""/>
          <p:cNvSpPr txBox="1"/>
          <p:nvPr/>
        </p:nvSpPr>
        <p:spPr>
          <a:xfrm rot="5400000">
            <a:off x="7498800" y="4692600"/>
            <a:ext cx="380880" cy="29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66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Gill Sans Ultra Bold"/>
              </a:rPr>
              <a:t>z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7727400" y="5302080"/>
            <a:ext cx="380880" cy="29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66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Gill Sans Ultra Bold"/>
              </a:rPr>
              <a:t>z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7270200" y="5759280"/>
            <a:ext cx="380880" cy="29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66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Gill Sans Ultra Bold"/>
              </a:rPr>
              <a:t>z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7575120" y="6292800"/>
            <a:ext cx="380880" cy="29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66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Gill Sans Ultra Bold"/>
              </a:rPr>
              <a:t>z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Gill Sans Ultra Bold"/>
              <a:ea typeface="Gill Sans Ultra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88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anks to…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ve, Philip Babcock, and Noah Webster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Webster's Third New International Dictionary of the English Language, Unabridged: a Merriam-Webster, Utilizing All the Experience and Resources of More than One Hundred Years of Merriam-Webster Dictionar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Springfield, MA: Merriam-Webster, 1981. Print.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Tahoma"/>
                <a:hlinkClick r:id="rId1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Dictionary.com | Free Online Dictionary for English Definitions."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ictionary.com | Free Online Dictionary for English Defini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N.p., n.d. Web. 1 Mar. 2011. &lt;http://dictionary.com&gt;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my mom, who gave me lots of information about sleep and its effect on people.</a:t>
            </a: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213372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0884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effect does sleep deprivation have on memory and math skills?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 rot="5400000">
            <a:off x="-799560" y="3161520"/>
            <a:ext cx="3313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833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32767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0884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you ever been to a sleepover? They can be great. The only down side is that after you feel drained and unable to think. You have enough energy to do a few things, but after a while, you crash. I want to know if it really does effect my thinking and memory skills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 rot="5400000">
            <a:off x="-1256400" y="2780280"/>
            <a:ext cx="437976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Introdu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0884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think that their memory will get slower, and that math skills will take more tries and time to do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934320" y="5238720"/>
            <a:ext cx="2209680" cy="1619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 rot="5400000">
            <a:off x="-1332360" y="2858040"/>
            <a:ext cx="41893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Hypothes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0884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Jr. High girls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six character math problems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deck of cards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4105080" cy="2828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 rot="5400000">
            <a:off x="-1467720" y="2763000"/>
            <a:ext cx="468792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Material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0884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ather all materials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e each girl the same math problem to solve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ord how long it takes them to get it right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out the deck of cards. Choose 5 random cards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how them to each girl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ve them repeat the cards back to you after 5 sec. of studying the cards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ord how many cards they can remember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ve the girls stay awake until midnight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st each girl again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ord all of the data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 rot="19653000">
            <a:off x="1371600" y="5331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05920" y="2057400"/>
            <a:ext cx="38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2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57600" y="5983200"/>
            <a:ext cx="2379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76920" y="838080"/>
            <a:ext cx="228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629400" y="5181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-1021680" y="3231360"/>
            <a:ext cx="37573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rocedu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0884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verage time for the control math problem test was 11.2 seconds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verage time for the math problem at midnight was 16.8 seconds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ime of day didn’t effect memory at all! Everyone got all 5 cards right every time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-990360" y="2895480"/>
            <a:ext cx="380988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Resul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16644" t="0" r="21324" b="0"/>
          <a:stretch/>
        </p:blipFill>
        <p:spPr>
          <a:xfrm>
            <a:off x="5334120" y="457200"/>
            <a:ext cx="2438280" cy="2211480"/>
          </a:xfrm>
          <a:prstGeom prst="rect">
            <a:avLst/>
          </a:prstGeom>
          <a:ln w="101520">
            <a:solidFill>
              <a:srgbClr val="00008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4952880" cy="27860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26230" t="0" r="26230" b="0"/>
          <a:stretch/>
        </p:blipFill>
        <p:spPr>
          <a:xfrm>
            <a:off x="1905120" y="1828800"/>
            <a:ext cx="2514600" cy="3000240"/>
          </a:xfrm>
          <a:prstGeom prst="rect">
            <a:avLst/>
          </a:prstGeom>
          <a:ln w="88920">
            <a:solidFill>
              <a:srgbClr val="8000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4"/>
          <a:srcRect l="0" t="0" r="26830" b="0"/>
          <a:stretch/>
        </p:blipFill>
        <p:spPr>
          <a:xfrm>
            <a:off x="3200400" y="152280"/>
            <a:ext cx="2286000" cy="17575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5"/>
          <a:srcRect l="33546" t="0" r="17975" b="0"/>
          <a:stretch/>
        </p:blipFill>
        <p:spPr>
          <a:xfrm>
            <a:off x="6629400" y="1905120"/>
            <a:ext cx="2363760" cy="2743200"/>
          </a:xfrm>
          <a:prstGeom prst="rect">
            <a:avLst/>
          </a:prstGeom>
          <a:ln w="114480">
            <a:solidFill>
              <a:srgbClr val="ff0000"/>
            </a:solidFill>
            <a:miter/>
          </a:ln>
        </p:spPr>
      </p:pic>
      <p:sp>
        <p:nvSpPr>
          <p:cNvPr id="120" name=""/>
          <p:cNvSpPr txBox="1"/>
          <p:nvPr/>
        </p:nvSpPr>
        <p:spPr>
          <a:xfrm rot="5400000">
            <a:off x="-1332720" y="2780280"/>
            <a:ext cx="43797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08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Test Subjec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08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0884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noticed that everyone seemed disoriented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also seemed to have to think harder at midnight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191120" y="4419720"/>
            <a:ext cx="2819160" cy="1925640"/>
          </a:xfrm>
          <a:prstGeom prst="rect">
            <a:avLst/>
          </a:prstGeom>
          <a:ln w="101520">
            <a:solidFill>
              <a:srgbClr val="3366ff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 rot="5400000">
            <a:off x="-1355040" y="2955240"/>
            <a:ext cx="438624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Observat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0:54:11Z</dcterms:created>
  <dc:creator>USD376</dc:creator>
  <dc:description/>
  <dc:language>en-US</dc:language>
  <cp:lastModifiedBy>USD376</cp:lastModifiedBy>
  <cp:lastPrinted>2009-04-22T19:24:48Z</cp:lastPrinted>
  <dcterms:modified xsi:type="dcterms:W3CDTF">2011-03-22T19:59:01Z</dcterms:modified>
  <cp:revision>10</cp:revision>
  <dc:subject/>
  <dc:title>The Amazing Paint Race</dc:title>
</cp:coreProperties>
</file>